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shreg.wav" ContentType="audio/x-wav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1C828-2796-4413-8BF6-4BFA6F9817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F1E2D-3F19-4B48-8028-3EC8F61D140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D740-9BFA-41C5-A02B-D82BAED88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D6EE-FE6B-4C75-AE84-2E5871604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0A16-5205-41E0-86D1-10903EF60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68EC-741F-4CBB-BE45-B30FD616E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1FB4-D71E-4131-89CA-AC65AE001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93EF-E755-4A9F-B2F4-3312AEBBD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25FB-B245-4710-8A87-65D938287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1C8D-2B5B-429F-A8A3-1A1C9C83A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9DFC-C895-4338-98F4-1BC8CCFFA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88E1-9AE4-4B86-9EC2-574588BD6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E210-FF65-48AE-BAA1-DF9F9B21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479D-7095-4DCF-A3F6-24B1B208A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78B83-B284-428D-BE89-55BA07EF71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ellringer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(n) _________ describes how particles will behave around other partic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ectr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utr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t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r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Electric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6854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Trebuchet MS"/>
              </a:rPr>
              <a:t>The Bas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0" y="1295280"/>
            <a:ext cx="8915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Part Two: Behavior of Char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charg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describes how particles will behave around other partic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Negative charges mov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away from other negative charges and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towards positiv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char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Negative charges move because electrons have much less mass than prot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does a charge do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 negative charges behave around other negative charg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 negative charges behave around positive charg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Electric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9903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Trebuchet MS"/>
              </a:rPr>
              <a:t>Quick Re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0" y="1828800"/>
            <a:ext cx="8915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opy the picture below.  Use arrows to indicate how the charges would mo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914400" y="3200400"/>
            <a:ext cx="7467480" cy="312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1676520" y="4191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1600200" y="3276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1676520" y="5029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1676520" y="5867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6248520" y="3276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6400800" y="5867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4"/>
          <p:cNvSpPr/>
          <p:nvPr/>
        </p:nvSpPr>
        <p:spPr>
          <a:xfrm>
            <a:off x="6324480" y="51055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5"/>
          <p:cNvSpPr/>
          <p:nvPr/>
        </p:nvSpPr>
        <p:spPr>
          <a:xfrm>
            <a:off x="6324480" y="4343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Electric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9903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Trebuchet MS"/>
              </a:rPr>
              <a:t>Quick Re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0" y="1828800"/>
            <a:ext cx="8915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914400" y="3200400"/>
            <a:ext cx="7467480" cy="312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1676520" y="4191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1600200" y="3276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1676520" y="5029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1676520" y="5867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248520" y="3276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6400800" y="5867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6324480" y="51055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6324480" y="4343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14"/>
          <p:cNvSpPr/>
          <p:nvPr/>
        </p:nvSpPr>
        <p:spPr>
          <a:xfrm>
            <a:off x="1905120" y="37339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17"/>
          <p:cNvSpPr/>
          <p:nvPr/>
        </p:nvSpPr>
        <p:spPr>
          <a:xfrm>
            <a:off x="1981080" y="5486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18"/>
          <p:cNvSpPr/>
          <p:nvPr/>
        </p:nvSpPr>
        <p:spPr>
          <a:xfrm>
            <a:off x="6553080" y="38098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9"/>
          <p:cNvSpPr/>
          <p:nvPr/>
        </p:nvSpPr>
        <p:spPr>
          <a:xfrm>
            <a:off x="6629400" y="55627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Electric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9903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Trebuchet MS"/>
              </a:rPr>
              <a:t>Quick Re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0" y="1828800"/>
            <a:ext cx="8915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914400" y="3200400"/>
            <a:ext cx="7467480" cy="312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676520" y="4191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1600200" y="3276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1676520" y="5029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1676520" y="5867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6248520" y="3276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6400800" y="5867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6324480" y="51055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6324480" y="4343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4"/>
          <p:cNvSpPr/>
          <p:nvPr/>
        </p:nvSpPr>
        <p:spPr>
          <a:xfrm>
            <a:off x="2133720" y="3505320"/>
            <a:ext cx="4038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2209680" y="4419720"/>
            <a:ext cx="403884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16"/>
          <p:cNvSpPr/>
          <p:nvPr/>
        </p:nvSpPr>
        <p:spPr>
          <a:xfrm>
            <a:off x="2209680" y="5257800"/>
            <a:ext cx="403884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17"/>
          <p:cNvSpPr/>
          <p:nvPr/>
        </p:nvSpPr>
        <p:spPr>
          <a:xfrm>
            <a:off x="2209680" y="6095880"/>
            <a:ext cx="4038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Electric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9903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Trebuchet MS"/>
              </a:rPr>
              <a:t>Quick Re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0" y="1828800"/>
            <a:ext cx="8915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914400" y="3200400"/>
            <a:ext cx="7467480" cy="312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1676520" y="4191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1600200" y="3276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1676520" y="5029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1676520" y="5867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6248520" y="3276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6400800" y="5867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2"/>
          <p:cNvSpPr/>
          <p:nvPr/>
        </p:nvSpPr>
        <p:spPr>
          <a:xfrm>
            <a:off x="6324480" y="51055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3"/>
          <p:cNvSpPr/>
          <p:nvPr/>
        </p:nvSpPr>
        <p:spPr>
          <a:xfrm>
            <a:off x="6324480" y="4343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14"/>
          <p:cNvSpPr/>
          <p:nvPr/>
        </p:nvSpPr>
        <p:spPr>
          <a:xfrm>
            <a:off x="2133720" y="3505320"/>
            <a:ext cx="40384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15"/>
          <p:cNvSpPr/>
          <p:nvPr/>
        </p:nvSpPr>
        <p:spPr>
          <a:xfrm>
            <a:off x="2209680" y="4419720"/>
            <a:ext cx="4038840" cy="1522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16"/>
          <p:cNvSpPr/>
          <p:nvPr/>
        </p:nvSpPr>
        <p:spPr>
          <a:xfrm>
            <a:off x="2209680" y="5257800"/>
            <a:ext cx="4038840" cy="763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17"/>
          <p:cNvSpPr/>
          <p:nvPr/>
        </p:nvSpPr>
        <p:spPr>
          <a:xfrm>
            <a:off x="2209680" y="6095880"/>
            <a:ext cx="40388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Electric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9903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Trebuchet MS"/>
              </a:rPr>
              <a:t>The Bas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0" y="1828800"/>
            <a:ext cx="8915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rebuchet MS"/>
              </a:rPr>
              <a:t>A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rebuchet MS"/>
              </a:rPr>
              <a:t>force of attraction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rebuchet MS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rebuchet MS"/>
              </a:rPr>
              <a:t>exists between opposite char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rebuchet MS"/>
              </a:rPr>
              <a:t>A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rebuchet MS"/>
              </a:rPr>
              <a:t>force of repulsion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rebuchet MS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rebuchet MS"/>
              </a:rPr>
              <a:t>exists between like char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Group 18"/>
          <p:cNvGrpSpPr/>
          <p:nvPr/>
        </p:nvGrpSpPr>
        <p:grpSpPr>
          <a:xfrm>
            <a:off x="457200" y="5257800"/>
            <a:ext cx="2666880" cy="1191240"/>
            <a:chOff x="457200" y="5257800"/>
            <a:chExt cx="2666880" cy="1191240"/>
          </a:xfrm>
        </p:grpSpPr>
        <p:sp>
          <p:nvSpPr>
            <p:cNvPr id="156" name="Text Box 6"/>
            <p:cNvSpPr/>
            <p:nvPr/>
          </p:nvSpPr>
          <p:spPr>
            <a:xfrm>
              <a:off x="533520" y="5257800"/>
              <a:ext cx="1752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Text Box 7"/>
            <p:cNvSpPr/>
            <p:nvPr/>
          </p:nvSpPr>
          <p:spPr>
            <a:xfrm>
              <a:off x="1371600" y="5257800"/>
              <a:ext cx="1752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12"/>
            <p:cNvSpPr/>
            <p:nvPr/>
          </p:nvSpPr>
          <p:spPr>
            <a:xfrm flipH="1">
              <a:off x="457200" y="58672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15"/>
            <p:cNvSpPr/>
            <p:nvPr/>
          </p:nvSpPr>
          <p:spPr>
            <a:xfrm flipH="1">
              <a:off x="2514600" y="58672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Group 19"/>
          <p:cNvGrpSpPr/>
          <p:nvPr/>
        </p:nvGrpSpPr>
        <p:grpSpPr>
          <a:xfrm>
            <a:off x="3505320" y="4343400"/>
            <a:ext cx="2514600" cy="1191240"/>
            <a:chOff x="3505320" y="4343400"/>
            <a:chExt cx="2514600" cy="1191240"/>
          </a:xfrm>
        </p:grpSpPr>
        <p:sp>
          <p:nvSpPr>
            <p:cNvPr id="161" name="Text Box 9"/>
            <p:cNvSpPr/>
            <p:nvPr/>
          </p:nvSpPr>
          <p:spPr>
            <a:xfrm>
              <a:off x="4267440" y="4343400"/>
              <a:ext cx="1752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Text Box 11"/>
            <p:cNvSpPr/>
            <p:nvPr/>
          </p:nvSpPr>
          <p:spPr>
            <a:xfrm>
              <a:off x="3505320" y="4343400"/>
              <a:ext cx="1752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13"/>
            <p:cNvSpPr/>
            <p:nvPr/>
          </p:nvSpPr>
          <p:spPr>
            <a:xfrm flipH="1">
              <a:off x="3657600" y="50292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16"/>
            <p:cNvSpPr/>
            <p:nvPr/>
          </p:nvSpPr>
          <p:spPr>
            <a:xfrm flipH="1">
              <a:off x="5334120" y="50292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Group 20"/>
          <p:cNvGrpSpPr/>
          <p:nvPr/>
        </p:nvGrpSpPr>
        <p:grpSpPr>
          <a:xfrm>
            <a:off x="5791320" y="5181480"/>
            <a:ext cx="3352680" cy="1267560"/>
            <a:chOff x="5791320" y="5181480"/>
            <a:chExt cx="3352680" cy="1267560"/>
          </a:xfrm>
        </p:grpSpPr>
        <p:sp>
          <p:nvSpPr>
            <p:cNvPr id="166" name="Text Box 8"/>
            <p:cNvSpPr/>
            <p:nvPr/>
          </p:nvSpPr>
          <p:spPr>
            <a:xfrm>
              <a:off x="5791320" y="5257800"/>
              <a:ext cx="1752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Text Box 10"/>
            <p:cNvSpPr/>
            <p:nvPr/>
          </p:nvSpPr>
          <p:spPr>
            <a:xfrm>
              <a:off x="7391520" y="5181480"/>
              <a:ext cx="1752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14"/>
            <p:cNvSpPr/>
            <p:nvPr/>
          </p:nvSpPr>
          <p:spPr>
            <a:xfrm flipH="1">
              <a:off x="7543800" y="58672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17"/>
            <p:cNvSpPr/>
            <p:nvPr/>
          </p:nvSpPr>
          <p:spPr>
            <a:xfrm flipH="1">
              <a:off x="6934320" y="58672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ain a force of attra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ain a force of repuls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swer questions 1-8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Electric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371600" y="9903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Trebuchet MS"/>
              </a:rPr>
              <a:t>Static Electr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0" y="1828800"/>
            <a:ext cx="8915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rebuchet MS"/>
              </a:rPr>
              <a:t>When matter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rebuchet MS"/>
              </a:rPr>
              <a:t>gains or loses electrons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rebuchet MS"/>
              </a:rPr>
              <a:t>, it become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rebuchet MS"/>
              </a:rPr>
              <a:t>charged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rebuchet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rebuchet MS"/>
              </a:rPr>
              <a:t>Electricity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rebuchet MS"/>
              </a:rPr>
              <a:t> is the flow of electrons between charged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bjectiv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0" y="1143000"/>
            <a:ext cx="426240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SWBAT describe an electric charge and static electric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48320" y="914400"/>
            <a:ext cx="4038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575"/>
              </a:spcBef>
              <a:buClr>
                <a:srgbClr val="9bbb5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ellring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575"/>
              </a:spcBef>
              <a:buClr>
                <a:srgbClr val="9bbb5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bjective/ Agenda/ Big Go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575"/>
              </a:spcBef>
              <a:buClr>
                <a:srgbClr val="9bbb5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575"/>
              </a:spcBef>
              <a:buClr>
                <a:srgbClr val="9bbb5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575"/>
              </a:spcBef>
              <a:buClr>
                <a:srgbClr val="9bbb5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view Proble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575"/>
              </a:spcBef>
              <a:buClr>
                <a:srgbClr val="9bbb5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575"/>
              </a:spcBef>
              <a:buClr>
                <a:srgbClr val="9bbb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ood scientists 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know how electricity works, cause we use it everyday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575"/>
              </a:spcBef>
              <a:buClr>
                <a:srgbClr val="9bbb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80% or better-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CT2 65 days from now (Proficient and advanced!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575"/>
              </a:spcBef>
              <a:buClr>
                <a:srgbClr val="9bbb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575"/>
              </a:spcBef>
              <a:buClr>
                <a:srgbClr val="9bbb5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2514600" y="3657600"/>
            <a:ext cx="7086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Big Goal Connection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496800" y="373392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4f81bd"/>
                </a:solidFill>
                <a:latin typeface="Arial"/>
                <a:ea typeface="ＭＳ Ｐゴシック"/>
              </a:rPr>
              <a:t>BIG GOA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Electric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371600" y="9903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Trebuchet MS"/>
              </a:rPr>
              <a:t>Static Electr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0" y="1828800"/>
            <a:ext cx="8915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rebuchet MS"/>
              </a:rPr>
              <a:t>Static electricity-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rebuchet MS"/>
              </a:rPr>
              <a:t>charges build up in an object, but they do not flow continuous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rebuchet MS"/>
              </a:rPr>
              <a:t>Static electricity is transferred through charging by friction, by conduction, and by inductio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does an object become charge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static electricit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are the 3 ways static electricity is transferre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Electric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371600" y="9903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Trebuchet MS"/>
              </a:rPr>
              <a:t>Static Electr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0" y="1828800"/>
            <a:ext cx="8915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rebuchet MS"/>
              </a:rPr>
              <a:t>Friction – When two objects rub together and one gives up electrons to the 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6" descr="http://images.google.com/images?q=tbn:x2quTVjbBj0C:www.grmuseum.org/funstuff/electricity/Efun-3.gif"/>
          <p:cNvPicPr/>
          <p:nvPr/>
        </p:nvPicPr>
        <p:blipFill>
          <a:blip r:embed="rId1"/>
          <a:stretch/>
        </p:blipFill>
        <p:spPr>
          <a:xfrm>
            <a:off x="2971800" y="365760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fric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 an example of fri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Electric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371600" y="9903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Trebuchet MS"/>
              </a:rPr>
              <a:t>Static Electr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0" y="1828800"/>
            <a:ext cx="8915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rebuchet MS"/>
              </a:rPr>
              <a:t>Conduction: When a charged object touches a non-charged objects and electrons are transfer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Picture 7" descr="http://www.brown.edu/Departments/Swearer_Center/Projects/PSO/files/shock.gif"/>
          <p:cNvPicPr/>
          <p:nvPr/>
        </p:nvPicPr>
        <p:blipFill>
          <a:blip r:embed="rId1"/>
          <a:stretch/>
        </p:blipFill>
        <p:spPr>
          <a:xfrm>
            <a:off x="2362320" y="4343400"/>
            <a:ext cx="4495680" cy="21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conduc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 an example of condu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Electric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371600" y="9903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Trebuchet MS"/>
              </a:rPr>
              <a:t>Static Electr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0" y="1828800"/>
            <a:ext cx="8915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rebuchet MS"/>
              </a:rPr>
              <a:t>Induction – When charges separate but don’t transf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Group 29"/>
          <p:cNvGrpSpPr/>
          <p:nvPr/>
        </p:nvGrpSpPr>
        <p:grpSpPr>
          <a:xfrm>
            <a:off x="685800" y="4267080"/>
            <a:ext cx="2514600" cy="1907640"/>
            <a:chOff x="685800" y="4267080"/>
            <a:chExt cx="2514600" cy="1907640"/>
          </a:xfrm>
        </p:grpSpPr>
        <p:sp>
          <p:nvSpPr>
            <p:cNvPr id="198" name="Oval 6"/>
            <p:cNvSpPr/>
            <p:nvPr/>
          </p:nvSpPr>
          <p:spPr>
            <a:xfrm>
              <a:off x="685800" y="5181480"/>
              <a:ext cx="2514600" cy="914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Text Box 7"/>
            <p:cNvSpPr/>
            <p:nvPr/>
          </p:nvSpPr>
          <p:spPr>
            <a:xfrm>
              <a:off x="2209680" y="541008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Text Box 8"/>
            <p:cNvSpPr/>
            <p:nvPr/>
          </p:nvSpPr>
          <p:spPr>
            <a:xfrm>
              <a:off x="685800" y="54100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Text Box 9"/>
            <p:cNvSpPr/>
            <p:nvPr/>
          </p:nvSpPr>
          <p:spPr>
            <a:xfrm>
              <a:off x="1676520" y="51055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Text Box 10"/>
            <p:cNvSpPr/>
            <p:nvPr/>
          </p:nvSpPr>
          <p:spPr>
            <a:xfrm>
              <a:off x="1066680" y="571500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Text Box 11"/>
            <p:cNvSpPr/>
            <p:nvPr/>
          </p:nvSpPr>
          <p:spPr>
            <a:xfrm>
              <a:off x="2438280" y="541008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Text Box 12"/>
            <p:cNvSpPr/>
            <p:nvPr/>
          </p:nvSpPr>
          <p:spPr>
            <a:xfrm>
              <a:off x="1295280" y="518148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Text Box 13"/>
            <p:cNvSpPr/>
            <p:nvPr/>
          </p:nvSpPr>
          <p:spPr>
            <a:xfrm>
              <a:off x="838080" y="4267080"/>
              <a:ext cx="2286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rebuchet MS"/>
                </a:rPr>
                <a:t>Before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Group 30"/>
          <p:cNvGrpSpPr/>
          <p:nvPr/>
        </p:nvGrpSpPr>
        <p:grpSpPr>
          <a:xfrm>
            <a:off x="3675240" y="3647520"/>
            <a:ext cx="4020840" cy="2603520"/>
            <a:chOff x="3675240" y="3647520"/>
            <a:chExt cx="4020840" cy="2603520"/>
          </a:xfrm>
        </p:grpSpPr>
        <p:sp>
          <p:nvSpPr>
            <p:cNvPr id="207" name="Oval 14"/>
            <p:cNvSpPr/>
            <p:nvPr/>
          </p:nvSpPr>
          <p:spPr>
            <a:xfrm>
              <a:off x="5181480" y="5257800"/>
              <a:ext cx="2514600" cy="914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Text Box 15"/>
            <p:cNvSpPr/>
            <p:nvPr/>
          </p:nvSpPr>
          <p:spPr>
            <a:xfrm>
              <a:off x="6629400" y="57913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Text Box 16"/>
            <p:cNvSpPr/>
            <p:nvPr/>
          </p:nvSpPr>
          <p:spPr>
            <a:xfrm>
              <a:off x="5334120" y="4343400"/>
              <a:ext cx="2286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rebuchet MS"/>
                </a:rPr>
                <a:t>After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Text Box 17"/>
            <p:cNvSpPr/>
            <p:nvPr/>
          </p:nvSpPr>
          <p:spPr>
            <a:xfrm>
              <a:off x="6629400" y="52578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Text Box 18"/>
            <p:cNvSpPr/>
            <p:nvPr/>
          </p:nvSpPr>
          <p:spPr>
            <a:xfrm>
              <a:off x="7086600" y="54100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Text Box 19"/>
            <p:cNvSpPr/>
            <p:nvPr/>
          </p:nvSpPr>
          <p:spPr>
            <a:xfrm>
              <a:off x="5334120" y="57150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Text Box 20"/>
            <p:cNvSpPr/>
            <p:nvPr/>
          </p:nvSpPr>
          <p:spPr>
            <a:xfrm>
              <a:off x="5105520" y="53341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Text Box 21"/>
            <p:cNvSpPr/>
            <p:nvPr/>
          </p:nvSpPr>
          <p:spPr>
            <a:xfrm>
              <a:off x="5562720" y="52578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AutoShape 22"/>
            <p:cNvSpPr/>
            <p:nvPr/>
          </p:nvSpPr>
          <p:spPr>
            <a:xfrm rot="19493400">
              <a:off x="4222440" y="3617640"/>
              <a:ext cx="555480" cy="2079360"/>
            </a:xfrm>
            <a:prstGeom prst="can">
              <a:avLst>
                <a:gd name="adj" fmla="val 1336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Text Box 23"/>
            <p:cNvSpPr/>
            <p:nvPr/>
          </p:nvSpPr>
          <p:spPr>
            <a:xfrm rot="19767600">
              <a:off x="4327560" y="4368240"/>
              <a:ext cx="609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- - - -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induc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inside an object during induc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Electric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9903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Trebuchet MS"/>
              </a:rPr>
              <a:t>Static Electr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0" y="1828800"/>
            <a:ext cx="8915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rebuchet MS"/>
              </a:rPr>
              <a:t>When the charges in an object move to opposite ends the object i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rebuchet MS"/>
              </a:rPr>
              <a:t>polarized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Group 14"/>
          <p:cNvGrpSpPr/>
          <p:nvPr/>
        </p:nvGrpSpPr>
        <p:grpSpPr>
          <a:xfrm>
            <a:off x="1967040" y="3687120"/>
            <a:ext cx="4020840" cy="2603520"/>
            <a:chOff x="1967040" y="3687120"/>
            <a:chExt cx="4020840" cy="2603520"/>
          </a:xfrm>
        </p:grpSpPr>
        <p:sp>
          <p:nvSpPr>
            <p:cNvPr id="223" name="Oval 15"/>
            <p:cNvSpPr/>
            <p:nvPr/>
          </p:nvSpPr>
          <p:spPr>
            <a:xfrm>
              <a:off x="3473280" y="5297400"/>
              <a:ext cx="2514600" cy="914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Text Box 16"/>
            <p:cNvSpPr/>
            <p:nvPr/>
          </p:nvSpPr>
          <p:spPr>
            <a:xfrm>
              <a:off x="4921200" y="58309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Text Box 17"/>
            <p:cNvSpPr/>
            <p:nvPr/>
          </p:nvSpPr>
          <p:spPr>
            <a:xfrm>
              <a:off x="3625920" y="4383000"/>
              <a:ext cx="228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rebuchet MS"/>
                </a:rPr>
                <a:t>Polarized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Text Box 18"/>
            <p:cNvSpPr/>
            <p:nvPr/>
          </p:nvSpPr>
          <p:spPr>
            <a:xfrm>
              <a:off x="4921200" y="52974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Text Box 19"/>
            <p:cNvSpPr/>
            <p:nvPr/>
          </p:nvSpPr>
          <p:spPr>
            <a:xfrm>
              <a:off x="5378400" y="54496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Text Box 20"/>
            <p:cNvSpPr/>
            <p:nvPr/>
          </p:nvSpPr>
          <p:spPr>
            <a:xfrm>
              <a:off x="3625920" y="57546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Text Box 21"/>
            <p:cNvSpPr/>
            <p:nvPr/>
          </p:nvSpPr>
          <p:spPr>
            <a:xfrm>
              <a:off x="3397320" y="53737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Text Box 22"/>
            <p:cNvSpPr/>
            <p:nvPr/>
          </p:nvSpPr>
          <p:spPr>
            <a:xfrm>
              <a:off x="3854520" y="52974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AutoShape 23"/>
            <p:cNvSpPr/>
            <p:nvPr/>
          </p:nvSpPr>
          <p:spPr>
            <a:xfrm rot="19493400">
              <a:off x="2514240" y="3657240"/>
              <a:ext cx="555480" cy="2079360"/>
            </a:xfrm>
            <a:prstGeom prst="can">
              <a:avLst>
                <a:gd name="adj" fmla="val 1336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Text Box 24"/>
            <p:cNvSpPr/>
            <p:nvPr/>
          </p:nvSpPr>
          <p:spPr>
            <a:xfrm rot="19767600">
              <a:off x="2619360" y="4407840"/>
              <a:ext cx="609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- - - -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polarization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does polarization look like inside an objec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3.1 Physical Science: Electricity!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Our New Uni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Unit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ectric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When negatively and positively charged objects are brought together, electrons transfer until both objects have the same char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negatively and positively charged objects come togeth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at happe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Quick Che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0" y="99072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Trebuchet MS"/>
              </a:rPr>
              <a:t>Use the vocabulary from this lesson to describe how lightning results from the picture belo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AutoShape 4"/>
          <p:cNvSpPr/>
          <p:nvPr/>
        </p:nvSpPr>
        <p:spPr>
          <a:xfrm>
            <a:off x="2057400" y="2209680"/>
            <a:ext cx="4114800" cy="2359080"/>
          </a:xfrm>
          <a:prstGeom prst="cloudCallout">
            <a:avLst>
              <a:gd name="adj1" fmla="val -33912"/>
              <a:gd name="adj2" fmla="val -304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Group 5"/>
          <p:cNvGrpSpPr/>
          <p:nvPr/>
        </p:nvGrpSpPr>
        <p:grpSpPr>
          <a:xfrm>
            <a:off x="2743200" y="3429000"/>
            <a:ext cx="2482560" cy="897480"/>
            <a:chOff x="2743200" y="3429000"/>
            <a:chExt cx="2482560" cy="897480"/>
          </a:xfrm>
        </p:grpSpPr>
        <p:sp>
          <p:nvSpPr>
            <p:cNvPr id="243" name="Text Box 6"/>
            <p:cNvSpPr/>
            <p:nvPr/>
          </p:nvSpPr>
          <p:spPr>
            <a:xfrm>
              <a:off x="2743200" y="3429000"/>
              <a:ext cx="496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Text Box 7"/>
            <p:cNvSpPr/>
            <p:nvPr/>
          </p:nvSpPr>
          <p:spPr>
            <a:xfrm>
              <a:off x="4729320" y="3517560"/>
              <a:ext cx="496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Text Box 8"/>
            <p:cNvSpPr/>
            <p:nvPr/>
          </p:nvSpPr>
          <p:spPr>
            <a:xfrm>
              <a:off x="3168720" y="3450960"/>
              <a:ext cx="496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Text Box 9"/>
            <p:cNvSpPr/>
            <p:nvPr/>
          </p:nvSpPr>
          <p:spPr>
            <a:xfrm>
              <a:off x="3736440" y="3473280"/>
              <a:ext cx="496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Text Box 10"/>
            <p:cNvSpPr/>
            <p:nvPr/>
          </p:nvSpPr>
          <p:spPr>
            <a:xfrm>
              <a:off x="4303800" y="3562200"/>
              <a:ext cx="496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Group 11"/>
          <p:cNvGrpSpPr/>
          <p:nvPr/>
        </p:nvGrpSpPr>
        <p:grpSpPr>
          <a:xfrm>
            <a:off x="3129120" y="6073920"/>
            <a:ext cx="2128680" cy="786600"/>
            <a:chOff x="3129120" y="6073920"/>
            <a:chExt cx="2128680" cy="786600"/>
          </a:xfrm>
        </p:grpSpPr>
        <p:sp>
          <p:nvSpPr>
            <p:cNvPr id="249" name="Text Box 12"/>
            <p:cNvSpPr/>
            <p:nvPr/>
          </p:nvSpPr>
          <p:spPr>
            <a:xfrm>
              <a:off x="4761000" y="6073920"/>
              <a:ext cx="496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Text Box 13"/>
            <p:cNvSpPr/>
            <p:nvPr/>
          </p:nvSpPr>
          <p:spPr>
            <a:xfrm>
              <a:off x="3129120" y="6073920"/>
              <a:ext cx="496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Text Box 14"/>
            <p:cNvSpPr/>
            <p:nvPr/>
          </p:nvSpPr>
          <p:spPr>
            <a:xfrm>
              <a:off x="4194720" y="6073920"/>
              <a:ext cx="495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Text Box 15"/>
            <p:cNvSpPr/>
            <p:nvPr/>
          </p:nvSpPr>
          <p:spPr>
            <a:xfrm>
              <a:off x="3696480" y="6096240"/>
              <a:ext cx="497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" name="Text Box 17"/>
          <p:cNvSpPr/>
          <p:nvPr/>
        </p:nvSpPr>
        <p:spPr>
          <a:xfrm>
            <a:off x="2819520" y="5867280"/>
            <a:ext cx="49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18"/>
          <p:cNvSpPr/>
          <p:nvPr/>
        </p:nvSpPr>
        <p:spPr>
          <a:xfrm>
            <a:off x="4876920" y="5791320"/>
            <a:ext cx="49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19"/>
          <p:cNvSpPr/>
          <p:nvPr/>
        </p:nvSpPr>
        <p:spPr>
          <a:xfrm>
            <a:off x="3048120" y="6095880"/>
            <a:ext cx="49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20"/>
          <p:cNvSpPr/>
          <p:nvPr/>
        </p:nvSpPr>
        <p:spPr>
          <a:xfrm>
            <a:off x="3657600" y="5867280"/>
            <a:ext cx="49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21"/>
          <p:cNvSpPr/>
          <p:nvPr/>
        </p:nvSpPr>
        <p:spPr>
          <a:xfrm>
            <a:off x="4495680" y="6095880"/>
            <a:ext cx="49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Freeform 23"/>
          <p:cNvSpPr/>
          <p:nvPr/>
        </p:nvSpPr>
        <p:spPr>
          <a:xfrm>
            <a:off x="1981080" y="5676840"/>
            <a:ext cx="4267440" cy="1181160"/>
          </a:xfrm>
          <a:custGeom>
            <a:avLst/>
            <a:gdLst>
              <a:gd name="textAreaLeft" fmla="*/ 0 w 4267440"/>
              <a:gd name="textAreaRight" fmla="*/ 4267800 w 4267440"/>
              <a:gd name="textAreaTop" fmla="*/ 0 h 1181160"/>
              <a:gd name="textAreaBottom" fmla="*/ 1181520 h 1181160"/>
            </a:gdLst>
            <a:ahLst/>
            <a:rect l="textAreaLeft" t="textAreaTop" r="textAreaRight" b="textAreaBottom"/>
            <a:pathLst>
              <a:path w="2688" h="744">
                <a:moveTo>
                  <a:pt x="0" y="696"/>
                </a:moveTo>
                <a:cubicBezTo>
                  <a:pt x="112" y="548"/>
                  <a:pt x="224" y="400"/>
                  <a:pt x="336" y="312"/>
                </a:cubicBezTo>
                <a:cubicBezTo>
                  <a:pt x="448" y="224"/>
                  <a:pt x="584" y="176"/>
                  <a:pt x="672" y="168"/>
                </a:cubicBezTo>
                <a:cubicBezTo>
                  <a:pt x="760" y="160"/>
                  <a:pt x="784" y="280"/>
                  <a:pt x="864" y="264"/>
                </a:cubicBezTo>
                <a:cubicBezTo>
                  <a:pt x="944" y="248"/>
                  <a:pt x="1048" y="96"/>
                  <a:pt x="1152" y="72"/>
                </a:cubicBezTo>
                <a:cubicBezTo>
                  <a:pt x="1256" y="48"/>
                  <a:pt x="1400" y="88"/>
                  <a:pt x="1488" y="120"/>
                </a:cubicBezTo>
                <a:cubicBezTo>
                  <a:pt x="1576" y="152"/>
                  <a:pt x="1592" y="280"/>
                  <a:pt x="1680" y="264"/>
                </a:cubicBezTo>
                <a:cubicBezTo>
                  <a:pt x="1768" y="248"/>
                  <a:pt x="1912" y="0"/>
                  <a:pt x="2016" y="24"/>
                </a:cubicBezTo>
                <a:cubicBezTo>
                  <a:pt x="2120" y="48"/>
                  <a:pt x="2224" y="320"/>
                  <a:pt x="2304" y="408"/>
                </a:cubicBezTo>
                <a:cubicBezTo>
                  <a:pt x="2384" y="496"/>
                  <a:pt x="2432" y="496"/>
                  <a:pt x="2496" y="552"/>
                </a:cubicBezTo>
                <a:cubicBezTo>
                  <a:pt x="2560" y="608"/>
                  <a:pt x="2624" y="676"/>
                  <a:pt x="2688" y="7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Group 31"/>
          <p:cNvGrpSpPr/>
          <p:nvPr/>
        </p:nvGrpSpPr>
        <p:grpSpPr>
          <a:xfrm>
            <a:off x="3052800" y="2492280"/>
            <a:ext cx="2128680" cy="786600"/>
            <a:chOff x="3052800" y="2492280"/>
            <a:chExt cx="2128680" cy="786600"/>
          </a:xfrm>
        </p:grpSpPr>
        <p:sp>
          <p:nvSpPr>
            <p:cNvPr id="260" name="Text Box 32"/>
            <p:cNvSpPr/>
            <p:nvPr/>
          </p:nvSpPr>
          <p:spPr>
            <a:xfrm>
              <a:off x="4684680" y="2492280"/>
              <a:ext cx="496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Text Box 33"/>
            <p:cNvSpPr/>
            <p:nvPr/>
          </p:nvSpPr>
          <p:spPr>
            <a:xfrm>
              <a:off x="3052800" y="2492280"/>
              <a:ext cx="496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Text Box 34"/>
            <p:cNvSpPr/>
            <p:nvPr/>
          </p:nvSpPr>
          <p:spPr>
            <a:xfrm>
              <a:off x="4118400" y="2492280"/>
              <a:ext cx="495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Text Box 35"/>
            <p:cNvSpPr/>
            <p:nvPr/>
          </p:nvSpPr>
          <p:spPr>
            <a:xfrm>
              <a:off x="3620160" y="2514600"/>
              <a:ext cx="497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Text Box 36"/>
          <p:cNvSpPr/>
          <p:nvPr/>
        </p:nvSpPr>
        <p:spPr>
          <a:xfrm>
            <a:off x="3962520" y="5867280"/>
            <a:ext cx="49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38"/>
          <p:cNvSpPr/>
          <p:nvPr/>
        </p:nvSpPr>
        <p:spPr>
          <a:xfrm>
            <a:off x="5486400" y="2590920"/>
            <a:ext cx="20574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39"/>
          <p:cNvSpPr/>
          <p:nvPr/>
        </p:nvSpPr>
        <p:spPr>
          <a:xfrm>
            <a:off x="6400800" y="2971800"/>
            <a:ext cx="19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40"/>
          <p:cNvSpPr/>
          <p:nvPr/>
        </p:nvSpPr>
        <p:spPr>
          <a:xfrm>
            <a:off x="5943600" y="5943600"/>
            <a:ext cx="2133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swer questions 9-1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Electric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9903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Trebuchet MS"/>
              </a:rPr>
              <a:t>The Bas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0" y="1828800"/>
            <a:ext cx="8915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rebuchet MS"/>
              </a:rPr>
              <a:t>Part One: P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rebuchet MS"/>
              </a:rPr>
              <a:t>All matter is made of tiny particles called ato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rebuchet MS"/>
              </a:rPr>
              <a:t>All atoms are made of tinier particles called protons, neutrons, and electr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matter made up of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are atoms made up of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learn.genetics.utah.edu/content/begin/cells/scale/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Electric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9903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Trebuchet MS"/>
              </a:rPr>
              <a:t>The Bas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0" y="1828800"/>
            <a:ext cx="8915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(Neutrons – we’ll deal with these later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rebuchet MS"/>
              </a:rPr>
              <a:t>Protons – Big and heavy, positive charge +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rebuchet MS"/>
              </a:rPr>
              <a:t>Electrons – Small and light, negative charge -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Review: Subatomic Particl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" name="Group 3"/>
          <p:cNvGrpSpPr/>
          <p:nvPr/>
        </p:nvGrpSpPr>
        <p:grpSpPr>
          <a:xfrm>
            <a:off x="4952880" y="1143000"/>
            <a:ext cx="2819160" cy="3429000"/>
            <a:chOff x="4952880" y="1143000"/>
            <a:chExt cx="2819160" cy="3429000"/>
          </a:xfrm>
        </p:grpSpPr>
        <p:sp>
          <p:nvSpPr>
            <p:cNvPr id="69" name="Text Box 4"/>
            <p:cNvSpPr/>
            <p:nvPr/>
          </p:nvSpPr>
          <p:spPr>
            <a:xfrm>
              <a:off x="5583240" y="2156760"/>
              <a:ext cx="2188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5400" spc="-1" strike="noStrike" baseline="30000">
                  <a:solidFill>
                    <a:srgbClr val="ff0000"/>
                  </a:solidFill>
                  <a:latin typeface="Times New Roman"/>
                  <a:ea typeface="Times New Roman"/>
                </a:rPr>
                <a:t>-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Picture 5" descr="j0160370"/>
            <p:cNvPicPr/>
            <p:nvPr/>
          </p:nvPicPr>
          <p:blipFill>
            <a:blip r:embed="rId1"/>
            <a:stretch/>
          </p:blipFill>
          <p:spPr>
            <a:xfrm>
              <a:off x="5955480" y="1143000"/>
              <a:ext cx="108432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Line 6"/>
            <p:cNvSpPr/>
            <p:nvPr/>
          </p:nvSpPr>
          <p:spPr>
            <a:xfrm>
              <a:off x="6519240" y="1930680"/>
              <a:ext cx="0" cy="190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Line 7"/>
            <p:cNvSpPr/>
            <p:nvPr/>
          </p:nvSpPr>
          <p:spPr>
            <a:xfrm flipH="1">
              <a:off x="5892480" y="3838320"/>
              <a:ext cx="62640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Line 8"/>
            <p:cNvSpPr/>
            <p:nvPr/>
          </p:nvSpPr>
          <p:spPr>
            <a:xfrm>
              <a:off x="6519240" y="3838320"/>
              <a:ext cx="563760" cy="73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9"/>
            <p:cNvSpPr/>
            <p:nvPr/>
          </p:nvSpPr>
          <p:spPr>
            <a:xfrm flipV="1">
              <a:off x="6519240" y="1832760"/>
              <a:ext cx="876960" cy="58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10"/>
            <p:cNvSpPr/>
            <p:nvPr/>
          </p:nvSpPr>
          <p:spPr>
            <a:xfrm>
              <a:off x="5704560" y="1832760"/>
              <a:ext cx="814320" cy="58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6" name="Picture 11" descr="PE03087_"/>
            <p:cNvPicPr/>
            <p:nvPr/>
          </p:nvPicPr>
          <p:blipFill>
            <a:blip r:embed="rId2"/>
            <a:stretch/>
          </p:blipFill>
          <p:spPr>
            <a:xfrm>
              <a:off x="4952880" y="1637280"/>
              <a:ext cx="830160" cy="54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7" name="Group 20"/>
          <p:cNvGrpSpPr/>
          <p:nvPr/>
        </p:nvGrpSpPr>
        <p:grpSpPr>
          <a:xfrm>
            <a:off x="228600" y="990720"/>
            <a:ext cx="3276720" cy="3657240"/>
            <a:chOff x="228600" y="990720"/>
            <a:chExt cx="3276720" cy="3657240"/>
          </a:xfrm>
        </p:grpSpPr>
        <p:sp>
          <p:nvSpPr>
            <p:cNvPr id="78" name="Oval 21"/>
            <p:cNvSpPr/>
            <p:nvPr/>
          </p:nvSpPr>
          <p:spPr>
            <a:xfrm>
              <a:off x="335880" y="1557000"/>
              <a:ext cx="3061800" cy="2833560"/>
            </a:xfrm>
            <a:prstGeom prst="ellipse">
              <a:avLst/>
            </a:pr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9" name="Picture 22" descr="BD06100_"/>
            <p:cNvPicPr/>
            <p:nvPr/>
          </p:nvPicPr>
          <p:blipFill>
            <a:blip r:embed="rId3"/>
            <a:srcRect l="0" t="0" r="0" b="45880"/>
            <a:stretch/>
          </p:blipFill>
          <p:spPr>
            <a:xfrm>
              <a:off x="1410120" y="990720"/>
              <a:ext cx="896400" cy="66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Oval 23"/>
            <p:cNvSpPr/>
            <p:nvPr/>
          </p:nvSpPr>
          <p:spPr>
            <a:xfrm>
              <a:off x="389520" y="4184640"/>
              <a:ext cx="1020240" cy="4633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Oval 24"/>
            <p:cNvSpPr/>
            <p:nvPr/>
          </p:nvSpPr>
          <p:spPr>
            <a:xfrm>
              <a:off x="2323440" y="4184640"/>
              <a:ext cx="1020240" cy="4633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Oval 25"/>
            <p:cNvSpPr/>
            <p:nvPr/>
          </p:nvSpPr>
          <p:spPr>
            <a:xfrm>
              <a:off x="228600" y="1763280"/>
              <a:ext cx="483480" cy="41184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Oval 26"/>
            <p:cNvSpPr/>
            <p:nvPr/>
          </p:nvSpPr>
          <p:spPr>
            <a:xfrm>
              <a:off x="3021840" y="1814760"/>
              <a:ext cx="483480" cy="41220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Text Box 27"/>
            <p:cNvSpPr/>
            <p:nvPr/>
          </p:nvSpPr>
          <p:spPr>
            <a:xfrm>
              <a:off x="1195560" y="1917720"/>
              <a:ext cx="1557720" cy="170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6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600" spc="-1" strike="noStrike">
                  <a:solidFill>
                    <a:srgbClr val="ffff00"/>
                  </a:solidFill>
                  <a:latin typeface="Times New Roman"/>
                </a:rPr>
                <a:t>p</a:t>
              </a:r>
              <a:r>
                <a:rPr b="1" lang="en-US" sz="10600" spc="-1" strike="noStrike" baseline="30000">
                  <a:solidFill>
                    <a:srgbClr val="ffff00"/>
                  </a:solidFill>
                  <a:latin typeface="Times New Roman"/>
                </a:rPr>
                <a:t>+</a:t>
              </a:r>
              <a:endParaRPr b="0" lang="en-US" sz="10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5" name="Picture 28" descr="E:\PFiles\MSOffice\Clipart\corpbas\j0079118.wmf"/>
          <p:cNvPicPr/>
          <p:nvPr/>
        </p:nvPicPr>
        <p:blipFill>
          <a:blip r:embed="rId4"/>
          <a:stretch/>
        </p:blipFill>
        <p:spPr>
          <a:xfrm>
            <a:off x="7756560" y="4724280"/>
            <a:ext cx="138744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charge does a proton have?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charge does an electron have?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ich is bigger, a proton or an electron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3T17:49:59Z</dcterms:created>
  <dc:creator>Rob LoPiccolo</dc:creator>
  <dc:description/>
  <dc:language>en-US</dc:language>
  <cp:lastModifiedBy>Krystyna Brandt</cp:lastModifiedBy>
  <dcterms:modified xsi:type="dcterms:W3CDTF">2011-06-27T20:24:41Z</dcterms:modified>
  <cp:revision>9</cp:revision>
  <dc:subject/>
  <dc:title>Electricity</dc:title>
</cp:coreProperties>
</file>